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912C-8DE7-46DC-99D2-27AE67BF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0953-044E-4DCA-B382-E4DF676E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7C87-7C3A-453A-89F1-1A4191D4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9B0A-6C18-4050-AE8F-5536BECA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AB2E-359E-42D7-A114-76F75D34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4B51-2FE8-44CB-9F81-657427E9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FF8D-C972-446C-8A94-66A1C7DA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3B6A-CE2B-4C06-B969-B627E456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ABC8-C91A-4EE2-85EA-2E8F8158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199A-9261-4B35-99AE-7E9A8DBA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B75D-DFBB-4755-A522-50CA1128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7FBA-5390-4668-992C-65F75401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A264-8BAC-4CEE-84F6-B6FF3C67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BB69-ECE0-4D10-B6C4-84B34928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170E-20AF-4654-8963-A60E96D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CA55-4A26-4279-8849-263F6ECC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975E-A48C-4FB0-A7ED-CDCCE926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84A9-B1F4-4A8F-9628-08F68618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B4AC-DD66-4947-8B49-9D28DE1D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5A21-783E-4893-8096-0970A7BE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C705-30FB-4600-8B1F-4E8FB189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197B-D606-46D4-A64C-DE980B5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5E60-421B-4712-83BB-5E6B8CC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7438-E513-4A9C-A7B9-092294CB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D2F3-CBF5-41E8-8677-96D99A63D1E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94B2-0D15-4CD5-8CBD-EEBAA643140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28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защо аз гневни дум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говоря съм готов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защо сръдни и глуми*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место дружба и любов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„Любете един другиго!"-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й повеле Христо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ожи велик закон (свещен) е тоз.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 Любовта е много свят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ързва вси прияте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единствена в живот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оже да ощастливи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„Любете един другиго!"-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й повеле Христо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ожи велик закон (свещен) е тоз.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епредпазените думи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оже малко те да са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авят пакости голем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разделят дружеств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„Любете един другиго!"-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й повеле Христо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ожи велик закон (свещен) е тоз.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2:24Z</dcterms:modified>
  <cp:revision>157</cp:revision>
  <dc:subject/>
  <dc:title>Slide 1</dc:title>
</cp:coreProperties>
</file>